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F22CA-14C4-4E19-A648-909CAB78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A8F7B-C28F-4D5B-8D0D-953C17911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09B64-79B0-40F1-90FD-97A792BAB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675BF-DF97-4742-8D12-529538D1D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6FE85-EF5E-4810-BE84-2F885DECE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F57AB-329D-459F-B9AE-3964C9081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ACEA5-A798-4573-8608-C53AF261E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C818-1AE3-46E4-8DCC-85CD3F3F2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CE3ED-CAAD-47FF-A6DC-31BBC21BE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11B54-9307-48EB-8F42-25891C581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19F8D-1284-4094-9DFD-806637532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D6D2-1955-49BB-BD59-B0BAD24E7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13B0A-8C23-475E-B227-ACC509F61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1FE82-91CC-4962-AB60-F30B1D43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59E1D-9BD5-414C-A253-9442BE63B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76DDE-87D8-4181-8085-B2CE7E407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92817-533F-493B-9B36-C9A4215E8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1F6178-0C7C-42CA-9032-066F01023B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13575-45B9-4A34-BCB1-CAA4C71F0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7224C-31EF-4CBF-BF2A-F265398BB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226E1-76E9-42E3-BFFB-87285B404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EE5F9-AC6F-4B95-B1CF-F894E1D98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76B83-E40F-4701-8498-DB5225393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E3AAF-A620-41CB-83D9-D4D5C4051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499EB-2DBA-4AD7-805D-8586640B0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DA16D-A7E6-45AA-A4C2-DA63CBFC3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F25A8-E2A7-4FA2-BEC1-AB23A6038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F3D79-03F9-49F8-8C5A-58A9C19A7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17D537-E420-4CB0-BA79-DFF3BE592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4D4875-D7BE-4384-BF40-26F204C3A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CDCF03-CCB3-4437-8891-F1C4FA4AB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1A57A-BDE5-4C5E-974E-136612558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D51FA-E653-4C60-A6E9-79EA3E585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0325-4E4D-4C05-B9A1-4C6B979B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23C6E-16E1-4E78-BE7D-907DE698D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63907-5AB3-4D3B-992A-9BCEC39E8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E31FB-17E5-47D2-BFA1-55B89C94C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2D43E2-41B3-4C45-A55C-A73D3744B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49DA8-5D6E-4185-95F1-355D8DC5F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1C55D-F18D-4F64-91D4-CA3DCA493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F98CA-FE25-4E46-9CC0-0DABB7C3F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C76EDB-0E7C-4747-A583-0371893D5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BF80EB-AC48-47DB-9627-FD71498EDD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E19BFF-5A37-491E-8762-D37D58BC6E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4D9A-34EA-48BD-8D98-641A405E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B8191-5484-4801-9794-D54E18A87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5F211-D050-4853-9518-45F18051F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7231D-1325-4057-A3B0-314F086F7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D576A-27A3-4BCC-AB16-4F7ED3AA6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7933F-9A93-405B-87C7-91ED780DB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85AFE-1B10-4C9F-949C-375C838E3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313D6-22C7-4ECF-8158-A67C8DBF7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CD7CF-FC2A-4A17-9105-7A61F3DF3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A767A-C643-40B4-B615-7ADC3B153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36E8AB-4B78-486F-98AE-2528495A0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AF31-C16F-4BF7-9498-EECDB52F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CE0803-4145-42B0-B64F-500B89648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1CC2-64EE-4E3E-AEEE-64095C86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60BF-8C00-4DB7-BB7C-B86055B2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A39A-BD2A-46CC-9774-BCD5CD49E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DD2CC-7615-4078-B73E-E84B92FB390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44C43-1BE8-446F-8C25-02A6A4E3736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3D35F-17A9-4EFF-8132-49BF7397B4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993AE-A807-47FD-BFCE-4D8740C4947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C62B7-3111-4EB5-A672-F6057C46F4D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2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32B51-0F4E-440A-8BB4-9065ECC2EC2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32" name="Group 7"/>
          <p:cNvGrpSpPr/>
          <p:nvPr/>
        </p:nvGrpSpPr>
        <p:grpSpPr>
          <a:xfrm>
            <a:off x="2209680" y="3213000"/>
            <a:ext cx="4730760" cy="2832120"/>
            <a:chOff x="2209680" y="3213000"/>
            <a:chExt cx="4730760" cy="2832120"/>
          </a:xfrm>
        </p:grpSpPr>
        <p:pic>
          <p:nvPicPr>
            <p:cNvPr id="233"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34"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04480"/>
            <a:ext cx="7772400" cy="765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78C4E-B8FC-489E-830B-462F2185885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9" name="Image 6" descr=""/>
          <p:cNvPicPr/>
          <p:nvPr/>
        </p:nvPicPr>
        <p:blipFill>
          <a:blip r:embed="rId1"/>
          <a:stretch/>
        </p:blipFill>
        <p:spPr>
          <a:xfrm>
            <a:off x="765000" y="919080"/>
            <a:ext cx="7566120" cy="4772160"/>
          </a:xfrm>
          <a:prstGeom prst="rect">
            <a:avLst/>
          </a:prstGeom>
          <a:ln w="0">
            <a:noFill/>
          </a:ln>
        </p:spPr>
      </p:pic>
      <p:sp>
        <p:nvSpPr>
          <p:cNvPr id="280" name="Rectangle 6"/>
          <p:cNvSpPr/>
          <p:nvPr/>
        </p:nvSpPr>
        <p:spPr>
          <a:xfrm>
            <a:off x="458640" y="5680080"/>
            <a:ext cx="7953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rPr>
              <a:t>C. Castelfranchi et al., Deliberative Normative Agents: Principles and Architecture, Proc. ATAL '99 6th International Workshop on Intelligent Agents VI, Agen Theories, Architectures, and Languages (ATAL), Springer-Verlag London, UK, 20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distinct operations: (a) the activation of plan and norm declarations and the generation of a set of instantiations of both plans and norms, (b) the actual plan selection / execution proces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activation of plans and norms is  a preparatory step for the deliberation process. These two operations are implemented as two independent and concurrently operating task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tivation of plans and norms is strongly inspired by the processing of a production system (see, for example CLIPS (Giarrantano and Riley 1993)).</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gents must be able to adopt and “ un” –adopt norms at any time. This requires an activation mechanism that allows the registration of newly adopted norms at any time.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ewly adopted norms should be immediately influential to the agent’ s acting – they are subject to activation, as soon as they are adopted.</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J. Kollingbaum, Norm-Governed Practical Reasoning Agents, . PhD Thesis, University of Aberdeen.</a:t>
            </a:r>
            <a:endParaRPr b="0" lang="en-US" sz="1800" spc="-1" strike="noStrike">
              <a:solidFill>
                <a:srgbClr val="000000"/>
              </a:solidFill>
              <a:latin typeface="Perpetua"/>
            </a:endParaRPr>
          </a:p>
        </p:txBody>
      </p:sp>
      <p:sp>
        <p:nvSpPr>
          <p:cNvPr id="283"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C75A4-5015-4ECF-AA0A-3A8C03FD43F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E5F05-8D2C-4113-BA6A-C2431DC0443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0" name="Image 5" descr=""/>
          <p:cNvPicPr/>
          <p:nvPr/>
        </p:nvPicPr>
        <p:blipFill>
          <a:blip r:embed="rId1"/>
          <a:stretch/>
        </p:blipFill>
        <p:spPr>
          <a:xfrm>
            <a:off x="984240" y="1417680"/>
            <a:ext cx="70074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81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92" name=""/>
          <p:cNvSpPr txBox="1"/>
          <p:nvPr/>
        </p:nvSpPr>
        <p:spPr>
          <a:xfrm>
            <a:off x="914400" y="1246320"/>
            <a:ext cx="7772400" cy="47736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basic cycle as policy automata, with « institutional » filters operating transitions between policies, based on context changes dete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 each policy corresponds a set of « operational » filters to which the agent may (or not) subscribe. These operational filters regulate the activation of agent’s methods and the selection of internal parameters. </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me policies may be initial or terminal, or loop indefinitely</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unching of a filter implies, for any agent:</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urrent policy P</a:t>
            </a:r>
            <a:r>
              <a:rPr b="0" lang="fr-FR" sz="1600" spc="-1" strike="noStrike" baseline="-25000">
                <a:solidFill>
                  <a:srgbClr val="000000"/>
                </a:solidFill>
                <a:latin typeface="Perpetua"/>
              </a:rPr>
              <a:t>i</a:t>
            </a:r>
            <a:r>
              <a:rPr b="0" lang="fr-FR" sz="1600" spc="-1" strike="noStrike">
                <a:solidFill>
                  <a:srgbClr val="000000"/>
                </a:solidFill>
                <a:latin typeface="Perpetua"/>
              </a:rPr>
              <a:t> </a:t>
            </a:r>
            <a:r>
              <a:rPr b="0" lang="fr-FR" sz="1600" spc="-1" strike="noStrike">
                <a:solidFill>
                  <a:srgbClr val="000000"/>
                </a:solidFill>
                <a:latin typeface="Wingdings"/>
                <a:ea typeface="Wingdings"/>
              </a:rPr>
              <a:t></a:t>
            </a:r>
            <a:r>
              <a:rPr b="0" lang="fr-FR" sz="1600" spc="-1" strike="noStrike">
                <a:solidFill>
                  <a:srgbClr val="000000"/>
                </a:solidFill>
                <a:latin typeface="Perpetua"/>
              </a:rPr>
              <a:t> P</a:t>
            </a:r>
            <a:r>
              <a:rPr b="0" lang="fr-FR" sz="1600" spc="-1" strike="noStrike" baseline="-25000">
                <a:solidFill>
                  <a:srgbClr val="000000"/>
                </a:solidFill>
                <a:latin typeface="Perpetua"/>
              </a:rPr>
              <a:t>j</a:t>
            </a:r>
            <a:r>
              <a:rPr b="0" lang="fr-FR" sz="1600" spc="-1" strike="noStrike">
                <a:solidFill>
                  <a:srgbClr val="000000"/>
                </a:solidFill>
                <a:latin typeface="Perpetua"/>
              </a:rPr>
              <a:t>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nsubscribtion to current operational and institu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i</a:t>
            </a:r>
            <a:r>
              <a:rPr b="0" lang="fr-FR" sz="1600" spc="-1" strike="noStrike">
                <a:solidFill>
                  <a:srgbClr val="000000"/>
                </a:solidFill>
                <a:latin typeface="Perpetua"/>
              </a:rPr>
              <a:t>, F</a:t>
            </a:r>
            <a:r>
              <a:rPr b="0" lang="fr-FR" sz="1600" spc="-1" strike="noStrike" baseline="30000">
                <a:solidFill>
                  <a:srgbClr val="000000"/>
                </a:solidFill>
                <a:latin typeface="Perpetua"/>
              </a:rPr>
              <a:t>inst</a:t>
            </a:r>
            <a:r>
              <a:rPr b="0" lang="fr-FR" sz="1600" spc="-1" strike="noStrike" baseline="-25000">
                <a:solidFill>
                  <a:srgbClr val="000000"/>
                </a:solidFill>
                <a:latin typeface="Perpetua"/>
              </a:rPr>
              <a:t>i</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institutional filters {F</a:t>
            </a:r>
            <a:r>
              <a:rPr b="0" lang="fr-FR" sz="1600" spc="-1" strike="noStrike" baseline="30000">
                <a:solidFill>
                  <a:srgbClr val="000000"/>
                </a:solidFill>
                <a:latin typeface="Perpetua"/>
              </a:rPr>
              <a:t>inst</a:t>
            </a:r>
            <a:r>
              <a:rPr b="0" lang="fr-FR" sz="1600" spc="-1" strike="noStrike">
                <a:solidFill>
                  <a:srgbClr val="000000"/>
                </a:solidFill>
                <a:latin typeface="Perpetua"/>
              </a:rPr>
              <a:t> </a:t>
            </a:r>
            <a:r>
              <a:rPr b="0" lang="fr-FR" sz="1600" spc="-1" strike="noStrike" baseline="-25000">
                <a:solidFill>
                  <a:srgbClr val="000000"/>
                </a:solidFill>
                <a:latin typeface="Perpetua"/>
              </a:rPr>
              <a:t>j</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k</a:t>
            </a:r>
            <a:r>
              <a:rPr b="0" lang="fr-FR" sz="1600" spc="-1" strike="noStrike">
                <a:solidFill>
                  <a:srgbClr val="000000"/>
                </a:solidFill>
                <a:latin typeface="Perpetua"/>
              </a:rPr>
              <a: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opera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a:t>
            </a:r>
            <a:r>
              <a:rPr b="0" lang="fr-FR" sz="1600" spc="-1" strike="noStrike">
                <a:solidFill>
                  <a:srgbClr val="000000"/>
                </a:solidFill>
                <a:latin typeface="Perpetua"/>
              </a:rPr>
              <a:t>}</a:t>
            </a:r>
            <a:r>
              <a:rPr b="0" lang="fr-FR" sz="1600" spc="-1" strike="noStrike" baseline="-25000">
                <a:solidFill>
                  <a:srgbClr val="000000"/>
                </a:solidFill>
                <a:latin typeface="Perpetua"/>
              </a:rPr>
              <a:t>j </a:t>
            </a:r>
            <a:r>
              <a:rPr b="0" lang="fr-FR" sz="1600" spc="-1" strike="noStrike">
                <a:solidFill>
                  <a:srgbClr val="000000"/>
                </a:solidFill>
                <a:latin typeface="Perpetua"/>
              </a:rPr>
              <a:t>corresponding to the new policy P</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ssignement of new local variables to the new policy</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F1FC7-D586-4A64-BF47-901BADA2A9F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97079-644A-4590-943C-81FFCA14E34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0" name="Image 6" descr=""/>
          <p:cNvPicPr/>
          <p:nvPr/>
        </p:nvPicPr>
        <p:blipFill>
          <a:blip r:embed="rId1"/>
          <a:stretch/>
        </p:blipFill>
        <p:spPr>
          <a:xfrm>
            <a:off x="579600" y="839880"/>
            <a:ext cx="790416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905E4-AB40-48EC-B37F-D5EDF022B07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Norm »: Merriam-Webster Online Dictionary</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 principle of right action binding upon the members of a group and serving to guide, control, or regulate proper and acceptable behavior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t: « an authoritative standard or model », « an average like a standard, typical pattern, widespread practice or rule in a Group », and various definitions used in mathematic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om G. Boella &amp; L. van der Torre, Normative Reasoning and Decision Making, Tutorial at EASSS08</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re than distinguishing right from wrong, more than describing what counts as a violation, more than constraints, norms are rules to guide, control or regulate behavior</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rms can be communicated, Norms can be adopted, Norms can be used</a:t>
            </a:r>
            <a:endParaRPr b="0" lang="en-US" sz="2000" spc="-1" strike="noStrike">
              <a:solidFill>
                <a:srgbClr val="000000"/>
              </a:solidFill>
              <a:latin typeface="Perpetua"/>
            </a:endParaRPr>
          </a:p>
        </p:txBody>
      </p:sp>
      <p:sp>
        <p:nvSpPr>
          <p:cNvPr id="2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4C7AE-45EA-4F13-885E-0444F0F86CE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5: Normative MultiAgent Systems are multiagent systems with normative systems in which agents can decide whether to follow the explicitly represented norms, and the normative systems specify how and in which extent the agents can modify the norm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H. Verhagen, Introduction to normative multiagent systems. </a:t>
            </a:r>
            <a:r>
              <a:rPr b="0" i="1" lang="fr-FR" sz="1800" spc="-1" strike="noStrike">
                <a:solidFill>
                  <a:srgbClr val="000000"/>
                </a:solidFill>
                <a:latin typeface="Perpetua"/>
              </a:rPr>
              <a:t>Computational and Mathematical Organization Theory, double special issue on normative multiagent systems, 200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7: Normative MultiAgent System is a multiagent system organized by means of mechanisms to represent, communicate, distribute, detect, create, modify, and enforce norms, and mechanisms to deliberate about norms and detect norm violation and fulfillment.</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and H. Verhagen, Introduction to the special issue on normative multiagent systems. </a:t>
            </a:r>
            <a:r>
              <a:rPr b="0" i="1" lang="fr-FR" sz="1800" spc="-1" strike="noStrike">
                <a:solidFill>
                  <a:srgbClr val="000000"/>
                </a:solidFill>
                <a:latin typeface="Perpetua"/>
              </a:rPr>
              <a:t>Autonomous Agents and MultiAgent Systems, Aug. 2008.</a:t>
            </a:r>
            <a:endParaRPr b="0" lang="en-US" sz="1800" spc="-1" strike="noStrike">
              <a:solidFill>
                <a:srgbClr val="000000"/>
              </a:solidFill>
              <a:latin typeface="Perpetua"/>
            </a:endParaRPr>
          </a:p>
        </p:txBody>
      </p:sp>
      <p:sp>
        <p:nvSpPr>
          <p:cNvPr id="24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61832-653D-4012-BB75-E2888EB4212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ative MAS are a class of Multi-Agent Systems in which agent behavior is not only guided by their mere individual objectives, but also governed by social constraint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se social constraints, or norms, are designed as production rules and triggered by a dedicated engine. They result in agent notifications, thus operating as external incentives for ac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subscribe to norms and may adopt them or not, which may result in penalti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s may finally be adapted to cope with the evolution of context. The system dynamics therefore depends not only on the agent dynamics but also on the dynamics of the norm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Vettier, L. Amate, C. Garbay: A Multi-Hypothesis Monitoring Architecture: Application to Ambulatory Physiology. STAIRS 2012: 348-359</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5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A7C72-03DA-4240-A5E1-A260EE7EC96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717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6" name=""/>
          <p:cNvSpPr txBox="1"/>
          <p:nvPr/>
        </p:nvSpPr>
        <p:spPr>
          <a:xfrm>
            <a:off x="914400" y="992160"/>
            <a:ext cx="7772400" cy="50277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a conditional structure that captures the applicability conditions of the norm and its effects when it is trigger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sually represented using standard deontic logic, including deontic operators within a logic proposition language (AND, OR, negation¬, implication →)</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scriptive norms regulate actions by making them obligatory, permitted, or prohibit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se norms, to be complete, should indicate who (norm-subjects) does what (the action theme) in what circumstances (conditions of application), and the nature of their guidance (the moo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 = &lt;Id, Ω, M</a:t>
            </a:r>
            <a:r>
              <a:rPr b="0" lang="fr-FR" sz="1800" spc="-1" strike="noStrike" baseline="-25000">
                <a:solidFill>
                  <a:srgbClr val="000000"/>
                </a:solidFill>
                <a:latin typeface="Perpetua"/>
              </a:rPr>
              <a:t>R, S</a:t>
            </a:r>
            <a:r>
              <a:rPr b="0" lang="fr-FR" sz="1800" spc="-1" strike="noStrike">
                <a:solidFill>
                  <a:srgbClr val="000000"/>
                </a:solidFill>
                <a:latin typeface="Perpetua"/>
              </a:rPr>
              <a:t>, Cond</a:t>
            </a:r>
            <a:r>
              <a:rPr b="0" lang="fr-FR" sz="1800" spc="-1" strike="noStrike" baseline="-25000">
                <a:solidFill>
                  <a:srgbClr val="000000"/>
                </a:solidFill>
                <a:latin typeface="Perpetua"/>
              </a:rPr>
              <a:t>A, E</a:t>
            </a:r>
            <a:r>
              <a:rPr b="0" lang="fr-FR" sz="1800" spc="-1" strike="noStrike">
                <a:solidFill>
                  <a:srgbClr val="000000"/>
                </a:solidFill>
                <a:latin typeface="Perpetua"/>
              </a:rPr>
              <a:t>, [B], A&gt;</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unique identifie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Ω: a weight (to resolve conflic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a:t>
            </a:r>
            <a:r>
              <a:rPr b="0" lang="fr-FR" sz="1800" spc="-1" strike="noStrike" baseline="-25000">
                <a:solidFill>
                  <a:srgbClr val="000000"/>
                </a:solidFill>
                <a:latin typeface="Perpetua"/>
              </a:rPr>
              <a:t>R, S </a:t>
            </a:r>
            <a:r>
              <a:rPr b="0" lang="fr-FR" sz="1800" spc="-1" strike="noStrike">
                <a:solidFill>
                  <a:srgbClr val="000000"/>
                </a:solidFill>
                <a:latin typeface="Perpetua"/>
              </a:rPr>
              <a:t>: deontic operator (prohibition, permission, obligation…) and reward/sanction</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d</a:t>
            </a:r>
            <a:r>
              <a:rPr b="0" lang="fr-FR" sz="1800" spc="-1" strike="noStrike" baseline="-25000">
                <a:solidFill>
                  <a:srgbClr val="000000"/>
                </a:solidFill>
                <a:latin typeface="Perpetua"/>
              </a:rPr>
              <a:t>A, E </a:t>
            </a:r>
            <a:r>
              <a:rPr b="0" lang="fr-FR" sz="1800" spc="-1" strike="noStrike">
                <a:solidFill>
                  <a:srgbClr val="000000"/>
                </a:solidFill>
                <a:latin typeface="Perpetua"/>
              </a:rPr>
              <a:t>: activation / expiration condit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the set of bearers: agents which subscribe to this norm</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 activity regulated by the norm</a:t>
            </a:r>
            <a:endParaRPr b="0" lang="en-US" sz="1800" spc="-1" strike="noStrike">
              <a:solidFill>
                <a:srgbClr val="000000"/>
              </a:solidFill>
              <a:latin typeface="Perpetua"/>
            </a:endParaRPr>
          </a:p>
        </p:txBody>
      </p:sp>
      <p:sp>
        <p:nvSpPr>
          <p:cNvPr id="25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C590B-0FDE-44B9-B17B-BCA93729356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autonomous ) normativ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to influence in some way the behaviour of the agent</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But as a motivated « conscious » separate decision  from the agent, rather than a direct filtering of goals or constraints on the decision process</a:t>
            </a:r>
            <a:endParaRPr b="0" lang="en-US" sz="1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Leaving the agent react </a:t>
            </a:r>
            <a:r>
              <a:rPr b="0" lang="en-US" sz="1400" spc="-1" strike="noStrike">
                <a:solidFill>
                  <a:srgbClr val="000000"/>
                </a:solidFill>
                <a:latin typeface="Perpetua"/>
              </a:rPr>
              <a:t>to an unpredictable changing environment, rather than forcing a fixed protocol, with norms hard-wired into the agents</a:t>
            </a:r>
            <a:endParaRPr b="0" lang="en-US" sz="14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normative agent </a:t>
            </a:r>
            <a:r>
              <a:rPr b="0" lang="fr-FR" sz="1800" spc="-1" strike="noStrike">
                <a:solidFill>
                  <a:srgbClr val="000000"/>
                </a:solidFill>
                <a:latin typeface="Perpetua"/>
              </a:rPr>
              <a:t>have explicit knowledge about the enacted norms  and can make a choice whether to obey the norms or not in specific cases</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combination of the agent’s own goals and plans with the norms then determines the actual behaviour of th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 Castelfranchi, F. Dignum, C.M. Jonker, J. Treur, Deliberative Normative Agents: Principles and Architecture, Proc. ATAL '99 6th International Workshop on Intelligent Agents VI, Agen Theories, Architectures, and Languages (ATAL), Springer-Verlag London, UK, 2000</a:t>
            </a:r>
            <a:endParaRPr b="0" lang="en-US" sz="1800" spc="-1" strike="noStrike">
              <a:solidFill>
                <a:srgbClr val="000000"/>
              </a:solidFill>
              <a:latin typeface="Perpetua"/>
            </a:endParaRPr>
          </a:p>
        </p:txBody>
      </p:sp>
      <p:sp>
        <p:nvSpPr>
          <p:cNvPr id="26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E4A5A-130B-4F88-A29D-3A70DA3E74F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680"/>
            <a:ext cx="7772400" cy="984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6" name="PlaceHolder 2"/>
          <p:cNvSpPr>
            <a:spLocks noGrp="1"/>
          </p:cNvSpPr>
          <p:nvPr>
            <p:ph/>
          </p:nvPr>
        </p:nvSpPr>
        <p:spPr>
          <a:xfrm>
            <a:off x="914400" y="1258560"/>
            <a:ext cx="7772400" cy="4761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m-autonomous agent are agents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a:t>
            </a:r>
            <a:r>
              <a:rPr b="0" lang="pt-BR" sz="1800" spc="-1" strike="noStrike">
                <a:solidFill>
                  <a:srgbClr val="000000"/>
                </a:solidFill>
                <a:latin typeface="Perpetua"/>
              </a:rPr>
              <a:t> </a:t>
            </a:r>
            <a:r>
              <a:rPr b="0" lang="en-US" sz="1800" spc="-1" strike="noStrike">
                <a:solidFill>
                  <a:srgbClr val="000000"/>
                </a:solidFill>
                <a:latin typeface="Perpetua"/>
              </a:rPr>
              <a:t>know that a norm exists in the society: norms may </a:t>
            </a:r>
            <a:r>
              <a:rPr b="0" lang="fr-FR" sz="1800" spc="-1" strike="noStrike">
                <a:solidFill>
                  <a:srgbClr val="000000"/>
                </a:solidFill>
                <a:latin typeface="Perpetua"/>
              </a:rPr>
              <a:t>be subscribed autonomously, received by communication or by observation</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 adopt this norm and deliberatively follow it (generate goals and plans </a:t>
            </a:r>
            <a:r>
              <a:rPr b="0" lang="fr-FR" sz="1800" spc="-1" strike="noStrike">
                <a:solidFill>
                  <a:srgbClr val="000000"/>
                </a:solidFill>
                <a:latin typeface="Perpetua"/>
              </a:rPr>
              <a:t>on this basis)</a:t>
            </a:r>
            <a:r>
              <a:rPr b="0" lang="en-US" sz="1800" spc="-1" strike="noStrike">
                <a:solidFill>
                  <a:srgbClr val="000000"/>
                </a:solidFill>
                <a:latin typeface="Perpetua"/>
              </a:rPr>
              <a:t> or on the contrary deliberatively violate</a:t>
            </a:r>
            <a:r>
              <a:rPr b="0" lang="fr-FR" sz="1800" spc="-1" strike="noStrike">
                <a:solidFill>
                  <a:srgbClr val="000000"/>
                </a:solidFill>
                <a:latin typeface="Perpetua"/>
              </a:rPr>
              <a:t> it in case of conflicts with other norms or, for example, with more important personal goals</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rms have impact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generation; they are among the possible « sources of goals » (what we should/have to do) together with bodily needs, emotions, wishes and desires (what we would like/wish to do). By generating goals, norms provide also a target for reasoning (drive and focus the reasoning activity)</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selection by providing criteria about how to manage and select among existing goals; in particular preference criteria. They push us to prefer one goal over another</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How to achieve the selected goal may be left to the agent’s autonomous decision</a:t>
            </a:r>
            <a:endParaRPr b="0" lang="en-US" sz="1800" spc="-1" strike="noStrike">
              <a:solidFill>
                <a:srgbClr val="000000"/>
              </a:solidFill>
              <a:latin typeface="Perpetu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7" name="Espace réservé de la date 1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8" name="Espace réservé du pied de page 2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9" name="Espace réservé du numéro de diapositive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4AC1A-25CD-416D-9C95-5C87822E56C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ow to achieve the selected goal (agent’s own process goa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has impact on the input of the functioning of the agent’s own processes; e.g., it defines a focus on the input information used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has impact on what output is attempted to generate; e.g., it defines a focus on the targets to be directed to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defines a focus on the functionality relation between input and output; e.g., it defines a focus on the kind of model or method to be used to produce some output data based on some input data</a:t>
            </a:r>
            <a:endParaRPr b="0" lang="en-US" sz="2000" spc="-1" strike="noStrike">
              <a:solidFill>
                <a:srgbClr val="000000"/>
              </a:solidFill>
              <a:latin typeface="Perpetua"/>
            </a:endParaRPr>
          </a:p>
        </p:txBody>
      </p:sp>
      <p:sp>
        <p:nvSpPr>
          <p:cNvPr id="2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E6CF8-5411-4117-A3C0-AB05AC6D9D5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8:53:39Z</dcterms:created>
  <dc:creator>Garbay Catherine</dc:creator>
  <dc:description/>
  <dc:language>en-US</dc:language>
  <cp:lastModifiedBy>Garbay Catherine</cp:lastModifiedBy>
  <cp:lastPrinted>2013-06-12T14:28:04Z</cp:lastPrinted>
  <dcterms:modified xsi:type="dcterms:W3CDTF">2013-08-30T02:24:32Z</dcterms:modified>
  <cp:revision>372</cp:revision>
  <dc:subject/>
  <dc:title>L’intelligence ambiante</dc:title>
</cp:coreProperties>
</file>